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E1B-9621-49E3-915F-C4396DC1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142-1B37-4D0B-B081-C319C0B5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5856-D73A-4341-A3AC-4F2C8D14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9C67-E273-4438-ABCB-D3045DAB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11C-7175-45D1-936D-600B3F1D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0849-6E4E-4027-BD10-F6757E12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4F0E-49EE-4428-8F26-6873AB4E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777E-1D8F-4A62-8F68-BE7AE10A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A17-DEF6-4842-8177-7010824D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9C9-3DC6-4BCD-A830-9B49EB79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22AB-02E5-4D12-A8BD-0F6FB9D0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CFF-0365-4DDC-83E3-61AF6C30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8F0F-EA61-4208-82A4-33C3D0F37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ия э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уда берутся новые формы живых сист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эмбри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32360" y="692280"/>
            <a:ext cx="3809880" cy="3676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3586320"/>
            <a:ext cx="3024000" cy="282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1752480" cy="1924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95640" y="148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л Бэр: закон зародышевого сх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5516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цидия: взрослый организм и лич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581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родыши разн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переходные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935080" cy="1636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32000" y="4365720"/>
            <a:ext cx="2841480" cy="192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140360" y="1197000"/>
            <a:ext cx="2819160" cy="2327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003640" y="4076640"/>
            <a:ext cx="36198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17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Критерии 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333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 – это группа особей, которых отличает общность в морфологии, физиологии, генетике, поведении. Особи внутри одного вида могут свободно скрещиваться и давать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лодовитое потом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занимают на планете определенную область, называемую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реа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637000"/>
            <a:ext cx="7704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ор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т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изи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к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ограф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1197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зменение научных представлений о происхождении и развитии жизни на 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637000"/>
            <a:ext cx="2808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живое единовременно создано некой Высшей Силой и не подвергается изме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Креа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3573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2565360"/>
            <a:ext cx="2808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знь зародилась давным-давно и, в результате естественных процессов, разделилась на огромное количество 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Эволю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2539800" cy="3098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35280" y="1197000"/>
            <a:ext cx="4824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ал систематику живых организмов. Систематическое расположение видов дало возможность понять, что есть виды-родственники и виды, характеризующиеся далеким род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я родства между видами – указание на их развитие 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4292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л Линней (1707 - 17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216240" cy="41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51640" y="537372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ан-Батист Ламарк (1774-18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197000"/>
            <a:ext cx="4464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первой эволюционной концепции. Он утверждал, что органы и системы органов животных и растений развиваются, либо деградируют в результате их упражнения или неупраж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м местом его теории было то, что благоприобретенные признаки на самом деле не могут передаваться по наследству: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68360" y="4221000"/>
            <a:ext cx="2103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40360" y="692280"/>
            <a:ext cx="4846320" cy="4265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1125360"/>
            <a:ext cx="37432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ом первой стройной эволюционной концепции был Чарльз Дарвин, написавший по этому поводу книг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 происхождении видов путем естественного отбора или о сохранении благоприятственных пород в борьбе за жиз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58920" y="3573360"/>
            <a:ext cx="1914480" cy="312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140360" y="5229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рльз Дарвин (1809 - 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260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Основная логика эволюционного 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125360"/>
            <a:ext cx="22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лед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844640"/>
            <a:ext cx="1798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3678120"/>
            <a:ext cx="20876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организмов к неограниченному размно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229360"/>
            <a:ext cx="1942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граниченность услови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87640" y="1268280"/>
            <a:ext cx="26640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рганизмы отличаются друг от друга и могут передавать свои характерные особенности потом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4262400"/>
            <a:ext cx="2664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а за существ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0360" y="1341360"/>
            <a:ext cx="2872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68360" y="1915920"/>
            <a:ext cx="719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422100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411280" y="465264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43640" y="1557360"/>
            <a:ext cx="2376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живаю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способ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716360" y="2060280"/>
            <a:ext cx="17272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191628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56360" y="3500280"/>
            <a:ext cx="28083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96360" y="256536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2924280"/>
            <a:ext cx="2808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26028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В итог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1693800"/>
            <a:ext cx="4392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ые системы приспосабливаются к условиям окружающе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ланете Земля существует огромное количество видов жив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гут сосуществовать высоко организованные виды и виды с более примитивным уровнем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132000" y="2060640"/>
            <a:ext cx="1008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132000" y="3212640"/>
            <a:ext cx="935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3284640"/>
            <a:ext cx="1079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палеонт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089" t="1628" r="1268" b="1665"/>
          <a:stretch/>
        </p:blipFill>
        <p:spPr>
          <a:xfrm>
            <a:off x="5076720" y="836640"/>
            <a:ext cx="3382920" cy="424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2766960"/>
            <a:ext cx="3600360" cy="3546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76720" y="537372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еоптер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06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ха в янта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404640"/>
            <a:ext cx="8496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Морфологические (сравнительно-анатомическ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2392200" cy="288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450864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мологичные и аналогичные орг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559320" cy="196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35640" y="35733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тав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56360" y="4508640"/>
            <a:ext cx="2457360" cy="1866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5734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ди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4:41:18Z</dcterms:created>
  <dc:creator>Ura</dc:creator>
  <dc:description/>
  <dc:language>en-US</dc:language>
  <cp:lastModifiedBy>ms45</cp:lastModifiedBy>
  <dcterms:modified xsi:type="dcterms:W3CDTF">2006-05-18T09:31:13Z</dcterms:modified>
  <cp:revision>9</cp:revision>
  <dc:subject/>
  <dc:title>Теория эволюции</dc:title>
</cp:coreProperties>
</file>